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85E-6EFB-47B8-A5CC-4704A51C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DA5-7528-4956-8072-39145492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FB7-22B7-4A92-B94C-3BAC4979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50C-3ADA-4719-AED5-70BCA5C8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31E-83A0-4924-AC1A-D2F4EE9E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F27-B4C8-4C34-A123-4CE128F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BEA-25AA-4417-A99C-797C7911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CA7-3D57-44E8-BE78-60E4087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E03-5FD6-4DF4-AED1-ACF3E70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888-8F3A-4929-BFD8-A8DD041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564-707C-4796-AD6C-DF3E8AC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81C-5EA1-4BF2-9027-EFBBA02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DF8-4324-47A3-B373-6176DF7D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88800" y="1895400"/>
                <a:ext cx="85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41280" y="1566720"/>
                <a:ext cx="9414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50800" y="3025800"/>
                <a:ext cx="567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21120" y="160668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33720" y="3024360"/>
                <a:ext cx="9478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389720" y="1330200"/>
                <a:ext cx="8924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49560" y="235908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44880" y="153684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97080" y="163368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106720" y="380844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01680" y="311148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41720" y="3119400"/>
                <a:ext cx="780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624560" y="19270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22640" y="5710320"/>
                <a:ext cx="896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33880" y="4794120"/>
                <a:ext cx="1009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10120" y="5641920"/>
                <a:ext cx="1011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61120" y="5364000"/>
                <a:ext cx="55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93000" y="4707000"/>
                <a:ext cx="617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24680" y="5659560"/>
                <a:ext cx="55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24160" y="1566720"/>
                <a:ext cx="5745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256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73320" y="160668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86280" y="3024360"/>
                <a:ext cx="841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75680" y="1689120"/>
                <a:ext cx="779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65320" y="239400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60640" y="1536840"/>
                <a:ext cx="787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97080" y="163368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071800" y="386064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01680" y="304164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3119400"/>
                <a:ext cx="780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60800" y="5719680"/>
                <a:ext cx="785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26360" y="1697040"/>
                <a:ext cx="502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42960" y="1527120"/>
                <a:ext cx="57492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560" y="367524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35120" y="1608120"/>
                <a:ext cx="469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318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00320" y="1571760"/>
                <a:ext cx="782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18040" y="3024360"/>
                <a:ext cx="579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127240" y="236700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24000" y="163044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98880" y="159876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14720" y="38527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16240" y="3041640"/>
                <a:ext cx="558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84560" y="4836960"/>
                <a:ext cx="7286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86640" y="168768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92680" y="5170320"/>
                <a:ext cx="10634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921200" y="4654440"/>
                <a:ext cx="61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60800" y="562608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41280" y="1566720"/>
                <a:ext cx="9399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256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21120" y="160668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033720" y="30243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319880" y="1689120"/>
                <a:ext cx="890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49560" y="23940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44880" y="162396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25880" y="1660680"/>
                <a:ext cx="725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79600" y="3119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105000" y="5719680"/>
                <a:ext cx="898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66840" y="1895400"/>
                <a:ext cx="896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97160" y="1566720"/>
                <a:ext cx="6267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50800" y="3025800"/>
                <a:ext cx="5684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073320" y="155412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086280" y="3024360"/>
                <a:ext cx="8395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375680" y="1716120"/>
                <a:ext cx="779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093760" y="236700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089080" y="1596960"/>
                <a:ext cx="731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36760" y="159552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52960" y="309564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160800" y="5748480"/>
                <a:ext cx="785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81720" y="1738440"/>
                <a:ext cx="557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26360" y="1738440"/>
                <a:ext cx="502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1, 8 – 4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6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1:49Z</dcterms:modified>
  <cp:revision>78</cp:revision>
  <dc:subject/>
  <dc:title>Slide 1</dc:title>
</cp:coreProperties>
</file>